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C3F2-A5AA-4391-91DB-7304AA123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2DEF-14B6-4739-95D2-0A0DDB0A1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04A-1FFB-4C65-B7AE-69A606C3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059-C143-48F1-B86B-59CBD3A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1C6-FEF7-45B7-A289-C9FCDD24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B7A-9697-49BD-8587-F9D60B0F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F76-173D-4A25-9704-E938D9A7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901-3A28-426D-91C4-EA288E93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C25-A69C-4075-AFA4-4DACE964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833-F91C-4502-832D-955110B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51D1-058D-4879-9A52-FC0DE7F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97E-5F6D-4DCC-89AB-ECB4C047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BA40-3FDA-42CC-8450-FF8F5FC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FEA-3BD1-4A61-ABB9-933FD347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1D46-7DAD-480E-9AD1-0D992904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0FA-DCBC-452F-BD41-B7690C0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C96B-3B65-4F52-8F8B-673909A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9D17-BAD5-45BE-BE18-0C541CC4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347-7A8E-4A9F-850A-687943EF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054-2456-4C98-893D-FBCFBB0B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1A6-B4AD-44FD-851F-81AD6A5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24F-5114-4246-9A19-A56B45C3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571-0EC4-4C2C-A1F6-7E1D49F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682-B85A-4A00-B9FF-31789B7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942-A549-4F73-B0FE-FE57789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550-5996-4E1C-81F4-3279C47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E27D-FADE-4FB6-B49D-477358241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B586-D3DB-4C64-9E06-8972FD255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E354-9294-46A9-A29E-CB1D5CAD9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165-9D30-47E1-AE6D-BCB7112C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368360" y="2257560"/>
            <a:ext cx="7709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Arial"/>
              </a:rPr>
              <a:t>Preconception Care &amp; Couns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Mastura Is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t Family Medicine Speci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inik Kesihatan Seremba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9000" y="1355760"/>
            <a:ext cx="1177128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conception care of women with pre-existing diabetes which involve a multidisciplinary team should be fully implemented in all healthcare fac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upplement of 5 mg folic acid per day should be given to women with diabetes who plan to become pregnant at least three months prior to conception and continue until 12 weeks of g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4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6C19-EF42-4644-A8AB-F43F7BE58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21A1-1756-4667-A7CD-3647A59CC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360" y="1355760"/>
            <a:ext cx="1194768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enefits women with pre-existing Type 1 DM (T1DM) and Type 2 DM (T2D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the incidence of congenital malformation, preterm delivery and perinatal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wers the HbA1c level of these women in the first trimest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the role of preconception care in women with history of GDM remains unclear due to lack of evidenc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ception Care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0" y="578016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4. Wahabi HA, Alzeidan RA, Bawazeer GA, et al. Preconception care for diabetic women for improving maternal and fetal outcomes: a systematic review and meta-analysis.BMC Pregnancy Childbirth. 2010;10:6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5. Tieu J, Bain E, Middleton P, et al. Interconception care for women with a history of gestational diabetes for improving maternal and infant outcomes.Cochrane Database Syst Rev. 2013;(6):CD0102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4D8-9B78-4092-BDA5-F76EC09D6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89000" y="135576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conception care, provided by a multidisciplinary team, consists of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Discussion on timeline for pregnancy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Lifestyle advice (diet, physical activities, smoking cessation and optimal body weig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Folic acid sup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Appropriate contracep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Full medication review (discontinue potentially teratogenic medic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Retinal and renal scre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300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Arial"/>
                <a:ea typeface="Arial"/>
              </a:rPr>
              <a:t>Relevant blood investig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ception Care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0" name="Rectangle 5"/>
          <p:cNvSpPr/>
          <p:nvPr/>
        </p:nvSpPr>
        <p:spPr>
          <a:xfrm>
            <a:off x="7920" y="6221520"/>
            <a:ext cx="121842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BA3-A81D-404D-8C39-45E556013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9000" y="135576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sh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formed of the glycaemic control targets and empowered to achieve control before co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unselled on the risks and expected management strategies during pregn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onception Care</a:t>
                      </a:r>
                      <a:r>
                        <a:rPr b="1" lang="en-MY" sz="4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B60-C260-4B48-8A7B-55A2F6BDE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89000" y="135576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T2DM who are planning a pregnancy should switch from oral antidiabetic agent (OAD) to insulin for glycaemic control. Patients who are already on metformin may continue treatmen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who also have polycystic ovarian syndrome may continue metformin for the ovulation in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ior to conception or upon detection of pregnancy, the following medications should be discontinued: angiotensin-converting enzyme inhibitors, angiotensin II receptor blockers and statin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tion Revie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4"/>
          <p:cNvSpPr/>
          <p:nvPr/>
        </p:nvSpPr>
        <p:spPr>
          <a:xfrm>
            <a:off x="7920" y="6221520"/>
            <a:ext cx="121842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B8BF-51E8-4128-A6B2-838584316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89000" y="129708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are encouraged to have a planned pregna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hoice of contraception is based on their own preferences and any risk factors according to the Medical Eligibility Criteria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 use of oral contraceptive pills are allo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intrauterine contraceptive device is the preferred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aution should be exercised when using Depo-Provera since it may worsen the glycaemic control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ep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4" name="Rectangle 4"/>
          <p:cNvSpPr/>
          <p:nvPr/>
        </p:nvSpPr>
        <p:spPr>
          <a:xfrm>
            <a:off x="0" y="5703840"/>
            <a:ext cx="121921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7. Joslin Diabetes Center and Joslin Clinic Guideline for Detection and Management of Diabetes in Pregnancy (Available at: http://www.joslin.org/docs/ Pregnancy-Guidelines_11-13-2016_corrected_1-11-2017.pdf) Accessed on: 20/09/201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4166-6D6F-495B-AEB4-2BB46CE12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9000" y="114948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NICE guidelines recommend that women with pre-existing diabetes who plan for pregnancy to aim for HbA1c &lt;6.5% (48 mmol/mol) if this is achievable without causing hypoglycaem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Any reduction in HbA1c level towards the target is likely to reduce the risk of congenital malformations in the bab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HbA1c level &gt;10% (86 mmol/mol) not advised to get pregnant because of the associated risks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For each 1% decrement in HbA1c, the risk of pre-eclampsia reduces by 12% in pre-pregnancy period to 53% at 34 weeks of gestation in T1DM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Women with pre-existing diabetes who plan to become pregnant need to increase the frequency of self-monitoring of blood glucose (SMBG) by including fasting, pre- and postprandiallevels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ycaemic Contro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4"/>
          <p:cNvSpPr/>
          <p:nvPr/>
        </p:nvSpPr>
        <p:spPr>
          <a:xfrm>
            <a:off x="0" y="5796000"/>
            <a:ext cx="121921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National Collaborating Centre for Women’s and Children’s Health (UK). Diabetes in pregnancy: management of diabetes and its complications from preconception to the postnatal period. London: NICE;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8. </a:t>
            </a: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Holmes VA, Young IS, Patterson CC, et al.; Diabetes and Pre-eclampsia Intervention Trial Study Group. Optimal glycemic control, pre-eclampsia, and gestational hypertension in women with type 1 diabetes in the diabetes and pre-eclampsia intervention trial.Diabetes Care. 2011 Aug;34(8):1683-168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2274-3AC4-41DE-836E-4338C0CA1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89000" y="1149480"/>
            <a:ext cx="119030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Daily FA supplementation (alone or in combination with other vitamins and minerals) in women who become pregnant or are ≤12 weeks pregnant is effective in preventing neural tube defects (NTDs) compared with no intervention/placebo or vitamins and minerals without FA (RR=0.31, 95% CI 0.17 to 0.5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t also has protective effect for re-occurrence of NTDs (RR=0.34, 95% CI 0.18 to 0.64). However, there is no significant evidence of preventive effect on cleft palate, cleft lip, congenital cardiovascular defects and miscarriag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ic Acid Supplement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4"/>
          <p:cNvSpPr/>
          <p:nvPr/>
        </p:nvSpPr>
        <p:spPr>
          <a:xfrm>
            <a:off x="0" y="6313320"/>
            <a:ext cx="12192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0. De-Regil LM1, Peña-Rosas JP, Fernández-Gaxiola AC, et al. Effects and safety of periconceptional oral folate supplementation for preventing birth defects.Cochrane Database Syst Rev. 2015;(12):CD00795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638-54C6-4E23-A723-AB2069052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3880" y="1149480"/>
            <a:ext cx="116222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periconceptional (during a month before conception or first three months of pregnancy) use of vitamins or supplements that contain FA is associated with an excess risk of NTDs in diabet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 women with diabetes should be counselled regarding intake of foods high in FA, folate-fortified foods and appropriate FA supplementation of 4 to 5 mg per day during the preconception period and in the first 12 weeks of gest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ic Acid Supplement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2"/>
          <p:cNvSpPr/>
          <p:nvPr/>
        </p:nvSpPr>
        <p:spPr>
          <a:xfrm>
            <a:off x="0" y="5632560"/>
            <a:ext cx="121921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1. Correa A1, Gilboa SM, Botto LD, Moore CA, et al; National Birth Defects Prevention Study.Lack of periconceptional vitamins or supplements that contain folic acid and diabetes mellitus-associated birth defects.Am J Obstet Gynecol. 2012;206(3):218.e1-1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2. Allen VM, Armson BA; Genetics Committee; Maternal Fetal Medicine Committee. Teratogenicity associated with pre-existing and gestational diabetes.J ObstetGynaecol Can. 2007;29(11):927-93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3327-4203-4E76-B7E4-C56BAF4D1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Ainol</cp:lastModifiedBy>
  <dcterms:modified xsi:type="dcterms:W3CDTF">2018-07-19T06:29:31Z</dcterms:modified>
  <cp:revision>78</cp:revision>
  <dc:subject/>
  <dc:title>PowerPoint Presentation</dc:title>
</cp:coreProperties>
</file>